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71A-7567-4CD6-8DD8-381B4971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940-59AF-42FA-B070-533F6C5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C8C-6840-4E04-97DE-CB983936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226-C7F5-4734-BB96-B227091E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7BF-1299-43D0-B9EA-4BFB1F4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335-A918-4179-A0B4-A622A7AE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B9A-01F7-4807-939B-1E07FCE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9B9-B635-48E5-A75B-B0133DDA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DFC-A2BA-4CC8-BC98-FD72AB7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443-3775-42C8-A62B-67216BE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549-F3B2-4DAE-A6EB-515F091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A8A-4962-4D4C-A2FF-01654B5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530F-4A40-4E96-823E-4A847C3DC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        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9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Prueba d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p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86 (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Yo _________(hacer) un viaje a Marbella. Marbella _______ (estar) en la Costa del Sol en el sur de España. Mi amiga Sandra ________(hacer) el viaje también. Nosotros 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(hacer) el viaje en avión hasta Málaga y luego __________ (ir) a tomar el autobús a Marbe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¡Ay, ay, Sandra! Pero tú _________(traer) mucho equipa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No, yo no _______(traer) mucho. _______(tener) solo dos maletas. Tú exageras. Tú también _______(venir) con mucho equipa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¡Oye! ¿A qué hora ________(salir) nuestro vue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-No ________(salir) hasta las seis y media. Nosotros ___________(tener) mucho tiemp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360" y="1082520"/>
            <a:ext cx="6340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                                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90720" y="1676520"/>
          <a:ext cx="5257800" cy="1471320"/>
        </p:xfrm>
        <a:graphic>
          <a:graphicData uri="http://schemas.openxmlformats.org/drawingml/2006/table">
            <a:tbl>
              <a:tblPr/>
              <a:tblGrid>
                <a:gridCol w="976320"/>
                <a:gridCol w="1127160"/>
                <a:gridCol w="1126800"/>
                <a:gridCol w="974880"/>
                <a:gridCol w="105264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3305160"/>
            <a:ext cx="1828800" cy="119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1523880" cy="140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1752840" cy="150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90720" y="4876920"/>
            <a:ext cx="320976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-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sajeros pueden llevar ______________ a bordo del av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vuelo a Madrid sale de la ________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abordar el avión, el pasajero necesita una ___________ de 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aeropuerto, los agentes trabajan en el ____________ de la línea aé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gente __________ los boletos y pasapo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sajeros deben ____________ el equipaje antes de abordar el av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pia y completa la oracion con la forma correcta del ver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los libros a clase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vuelo ________ a tiempo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 la tarea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 el trabajo en la pizarra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mi maleta. (ha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____ de su casa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_ de la casa a las siete. (sa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gentes ____________ las maletas en la bascula. (p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___ solo dos maletas. (tra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__ de la clase de yoga. (ve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r, traer, salir, poner y venir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22:39:30Z</dcterms:created>
  <dc:creator>Helen Zumaeta</dc:creator>
  <dc:description/>
  <dc:language>en-US</dc:language>
  <cp:lastModifiedBy>Helen Zumaeta</cp:lastModifiedBy>
  <dcterms:modified xsi:type="dcterms:W3CDTF">2011-10-19T20:53:11Z</dcterms:modified>
  <cp:revision>6</cp:revision>
  <dc:subject/>
  <dc:title>Me llamo ________           Clase 7 IM La fecha es el 19 de octubre del 2011</dc:title>
</cp:coreProperties>
</file>